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F6C5B-9394-4A1D-B5D0-A609225E0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B159E-44E5-4B4B-B633-39A22FD52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4259E-B0B5-486A-840B-55088CB7C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60860-FBC1-40E1-B143-D4B08D37A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8C099-FA4D-4D76-A0E3-790BEE4D7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925C-2570-4008-A802-C53C01014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B0A58-176E-45F7-AD95-772F7DB03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5F310-6943-4BD5-80A7-02C57D304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2523C-6EC5-4B65-98A0-F2CF44ABE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FC6FD-7FAE-4C37-A33A-FFB8E155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16834-2D4B-4E59-BAAD-ABAAAFEE0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2446-AF11-46DD-BA66-D5C360A93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2C08-7CF8-497E-BE83-F4BEA1BE7936}"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Urbanisation</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CBD Problems And Sol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ngestion</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British cities still have street plans that were laid down hundreds of years ago.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ads cannot cope with the ever-increasing numbers of cars and other vehicl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n cause massive congestion problems, especially at "rush hou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lutions to the problems have included improving public transport (e.g. the trams of Manchester); introducing park and ride schemes (e.g. Oxford); pedestrianisation (e.g. Exeter &amp; Oxford); encouraging people to share cars into work and building ring roads (e.g. Watfo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nges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hens (Greece) they have tried an extreme form of control by only allowing cars with odd numbers on their number plates into the city on one day, and then cars with even numbers the nex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fortunately this has led many people to own two cars, one with an odd number and one with an even 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ck Of Space</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BD’s are limited in their outwards growth by the fact that the city encompasses them, and due to the fact that businesses want to locate as close to the centre as they possibly c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has led to land prices rising to astronomical amou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nly solution seen by most businesses is to build upwards, which is why CBD's can be characterised by the presence of skyscrap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lution</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jor pollution seen in urban areas is air pollution, or smog. This pollution is mainly caused by the fumes given off by </a:t>
            </a:r>
            <a:r>
              <a:rPr b="1" lang="en-US" sz="3200" spc="-1" strike="noStrike">
                <a:solidFill>
                  <a:srgbClr val="000000"/>
                </a:solidFill>
                <a:latin typeface="Calibri"/>
              </a:rPr>
              <a:t>traffic</a:t>
            </a:r>
            <a:r>
              <a:rPr b="0" lang="en-US" sz="3200" spc="-1" strike="noStrike">
                <a:solidFill>
                  <a:srgbClr val="000000"/>
                </a:solidFill>
                <a:latin typeface="Calibri"/>
              </a:rPr>
              <a:t> and</a:t>
            </a:r>
            <a:r>
              <a:rPr b="1" lang="en-US" sz="3200" spc="-1" strike="noStrike">
                <a:solidFill>
                  <a:srgbClr val="000000"/>
                </a:solidFill>
                <a:latin typeface="Calibri"/>
              </a:rPr>
              <a:t> industr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famous example of where this pollution haze can be seen is over Los Angeles, but most of the large cities of the world experience it too. Poor air quality can lead to an increase in the cases of asthma and bronchi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lution</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is not the only thing polluted in cities. Water can be badly polluted, and so has to be carefully treated before being drun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a horrible thought, but most of the water that you drink in London has already been drunk by 7 other peop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to pollution problems include: banning heavy vehicles from CBD's; developing cleaner fuels, and providing more litter bins in CB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cities have encouraged the growth of out-of-town shopping centres to help traffic, land price and pollution problems, by taking some of the focus away from the CB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is can also have the negative effect of causing the CBD to dec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1:51:08Z</dcterms:created>
  <dc:creator>Dell_02</dc:creator>
  <dc:description/>
  <dc:language>en-US</dc:language>
  <cp:lastModifiedBy>Dell_02</cp:lastModifiedBy>
  <dcterms:modified xsi:type="dcterms:W3CDTF">2011-01-26T02:27:10Z</dcterms:modified>
  <cp:revision>3</cp:revision>
  <dc:subject/>
  <dc:title>Urbanisation</dc:title>
</cp:coreProperties>
</file>